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F580-DBD8-4F53-8976-BBCD4BC53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B54D-D25E-4076-BEAC-306CA54D8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097-6550-4181-A0B1-1E9CA02F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239-D91B-4F83-9460-A4B5DF87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413-3124-4B40-B8C9-853879AD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9DD-82A1-47C6-A55E-A5CE86D44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9C9A-3503-481A-BB00-C2B1D1CCD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DF23-D943-4DF6-936C-94B38C94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0B9B-E8AF-4764-8645-0A07C5A3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7425-3B86-4C91-A778-B098EED0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2AA4-3B6C-45AD-BCBF-674E0182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C39F-CF14-4963-A942-F7540139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C370-CDE9-485B-9378-1CBD223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9654-69E3-4B99-BD8B-BD31007A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E5F8-2053-47AA-A1AD-C5D19EE6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3184-3953-4491-AC29-6F092D7D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3099-224A-4893-B8C9-5DD6C8C5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70C3-5179-4614-868B-4D21F709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FB56-AF39-41B6-A882-EA36774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15392-CD35-4677-890B-33A38374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3D0AB-F968-42DB-B71E-8E301623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30C6-2600-4A00-A3E5-71973A8D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FEB6D-BB4A-495C-B3B0-266C2AC1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C93C-8F39-4512-B7AA-C589E900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B2F-0C8A-4394-9807-2EDD537C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996B-8B56-4F15-A9C3-743CFED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192D6-F212-4A24-808E-82CE9543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594DE-255B-4152-82B8-C9C4FD6F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4A0D-A092-431B-88D0-93D0375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CEB5-1A14-4F1C-B56A-A6673F74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9F08-E4E3-4FC2-842A-A755CDB0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B3573-6AC0-42BA-9B4E-A945D7C4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E9223-977D-4378-8414-2862E82F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24D81-3B6E-4980-B82A-041F4D83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C3F8-51E2-4822-A635-C2F33F32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346-2C73-48DB-B07C-369501C6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24FA-A4E3-4C61-9F4E-05841380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DF7E5-F0F0-4500-A2FA-694132EB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8C4BA-3FFC-4FE5-92FC-1F96E2B9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9B082-2E5B-472A-B27E-68558FD3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80E8-C802-46D8-A0DA-520AAEC0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E4845-CB68-4479-8918-F95BD1DE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C3BF3-F623-4F6B-AF2C-03A38197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BDDEB-3803-4707-9B2D-F74A38B5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DD62-CE99-47E7-8FD1-733014F5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CFBE5-F1C3-466A-8DE0-433F53FE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71FB-D7FE-4044-BBE1-C2CF8E12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739C9-A9BB-401E-BC17-0A194D70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115FA-9DCC-409A-9979-4FBAAD34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BA1AC-DF2E-465B-8FEB-797DFBB0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94B2-5823-4AFD-8434-BCE40C75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E3FDA-5F29-4F39-AED5-8B909A2E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EDC41-C6D9-407C-878A-C44D8377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D79FB-C6D6-4CC2-8CAB-D2AE500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279D-50AC-4907-8156-7E03B0C7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7063C-B031-440F-A6F2-6349D531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A4E2D-869B-4033-88CD-1B1A666B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DA8-B8F1-4DFE-BDA1-8D23BB6A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16670-9ADA-4AD7-B457-DFF70F65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01E-8D5D-4D1C-8EBE-374D7171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73BA-2655-4B55-90CB-C7ADFFE4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F16-465E-464A-9783-5EA2CFD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A605-AC32-439D-BBF0-34683D8603A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0171-8A7F-4272-8CD6-AF0CC5314F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3E51-9D52-484B-B160-16CAF26F520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AD61-7EA1-46B3-BEA7-100B716EB0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FB94-892A-4BF5-8FDC-25EA4E1B34E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A8FD-E6A0-4D63-87B1-776388D092C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165D-E7E6-484A-B2D2-F893A3AA73B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48D8-B191-4180-B2A9-F4E8BE05DD30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A50B-895B-4844-8958-8725228F843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007B-20D9-48FC-A250-5F664EA7E3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236520" y="1191960"/>
            <a:ext cx="5648400" cy="9442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PLC Team Norms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907560" y="1658520"/>
            <a:ext cx="6512040" cy="12542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</a:rPr>
              <a:t>What are norms?</a:t>
            </a:r>
            <a:endParaRPr b="1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eam Norms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 PLCs norms represent protocols and commitments developed by each team to guide members in working together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11480" indent="-411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Norms help team members clarify expectations regarding how they will work together to achieve their shared goals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 Strategy for Establishing Team Norm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nk of a past negative experience you have had serving on a team or committee and identify a specific behavior that prevented your group from being effective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65040"/>
            <a:ext cx="83059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NEGATIVE EXPERIENCES – POSITIVE COMMITM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2240" y="1100160"/>
            <a:ext cx="75218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r example, whining or complaining, arriving late and leaving early, texting during meeting, being disengaged during the meetings, and so on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For each negative norm identified by members of your team, establish a positive commitment statement (a norm) your team should adopt that, if everyone adhered to it, would prevent the past negative experience from recurring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452520" indent="-452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(10 minute activity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Tips for Establishing Team Norm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100160"/>
            <a:ext cx="752184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ach team establishes its own norm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rms are stated as commitments to act in certain ways rather than as belief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rms are reviewed at the beginning and end of each meeting until each team member internalizes them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One norm should require the team to assess its effectiveness at least twice during each school year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s assessment should include a review of members</a:t>
            </a:r>
            <a:r>
              <a:rPr b="0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 adherence to team norms and the need to add new norm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ess is more. A few key norms are better than a laundry list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Violation of norms should be addressed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EXAMPLES OF TEAM NORM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maintain a positive tone at our meeting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not complain about a problem unless we can offer a solution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begin and end our meetings on time and stay fully engaged throughout each meeting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contribute equally to the workload of this tea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429480" indent="-42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We will listen respectfully and consider matters from another</a:t>
            </a:r>
            <a:r>
              <a:rPr b="0" i="1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</a:rPr>
              <a:t>s perspective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9:41:21Z</dcterms:created>
  <dc:creator>Authorized User</dc:creator>
  <dc:description/>
  <dc:language>en-US</dc:language>
  <cp:lastModifiedBy>Heather Davis Schmidt</cp:lastModifiedBy>
  <cp:lastPrinted>2011-08-22T20:34:20Z</cp:lastPrinted>
  <dcterms:modified xsi:type="dcterms:W3CDTF">2013-08-15T05:36:37Z</dcterms:modified>
  <cp:revision>5</cp:revision>
  <dc:subject/>
  <dc:title>PLC Team Norms</dc:title>
</cp:coreProperties>
</file>